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CE8-B438-4EB9-A474-EDF6235A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C69-244C-42AB-97BA-D453774B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E7D4D-96B1-4C97-8DD8-AAFBA428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779F0-743F-4252-9F50-E8ADF77E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B01EE-10AC-4000-AD53-23CEC889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2EB8D-AF76-4A34-929A-701E29BA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B77BC-E1EE-4A12-90CC-BAF9D874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A9E0F-1FA8-48D4-A6D2-FCE197D2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CFABF-E9AD-42FF-BBC3-CB468A1C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DE4D9-887C-4920-B7C0-74930517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14F0E-D76D-4F8A-9969-41C41FAA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17AC4-D077-4056-BDA8-9019FC65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EEC-B4E7-4DE5-AB38-9B572644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74D2F-09B4-41B2-9EC5-F6D529B5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B21F5-B31F-4789-B757-039C9DBA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1A0BB-6A07-4DEC-B6B1-1CF6993C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E878B-9D41-4B85-92A7-3CF5B440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2574D-E479-48AE-969A-8A654288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D394F-1BD2-42A2-9A19-5FE00900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3B78A-B605-4D29-B088-2D74B813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00B55-5E23-4D1C-A120-E7C9886F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30E69-1FC6-4DBB-B88A-629FE204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1EABF-C0DD-497C-83A1-153943B4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28E-9E57-49CC-A307-5DF41835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A3B51-1F6B-4547-A2D7-7FF14CC9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F7606-521F-4337-B9E6-73A2E777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8FD6A-B92E-46BC-A310-3548B891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7DA75-36DB-41C2-BE72-04D68901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DA169-F2B2-48B0-BDE2-E13CBAF9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638D9-804F-4C12-B8E1-F2B5E85B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C7F98-AA67-447B-BDF0-E16A4502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A5D78-B425-48AF-A251-FA71220E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8D97C-3A59-4D98-872C-CA9D1E69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80FA7-720D-4E06-9616-F1FC911E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8CA3-09BE-46D7-A735-672B8D74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EBDE7-C7E0-474B-A60F-A127018F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02C96-9AFC-4302-9ACF-61A6B9F8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57DEA-751F-4353-B76C-C8B059FE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FC687-BE2B-4415-9DC1-6C786E24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1CCD1-E131-4AC9-97FD-D3CB205D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0D81B-13E5-49BB-A747-53AA1804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A80FA-50AD-4AD8-A802-071A8E6E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B1E9E-E441-4DE4-A378-14A71426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4ED6B-DB66-4E7C-A482-81D8F006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BA19B-81DC-4151-A552-3A06D4FC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841D-D4D2-4610-A603-DB3F6F1A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BE328-A26A-4574-B7DC-F767CDD9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34BE2-A1C2-4522-B786-C9207529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34849-A513-4851-94BD-C2D1A73A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86D95-2620-4F41-B573-325C7AD4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CD610-1094-4012-B531-68EC4DF3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124A4-823C-4F23-9154-6C8BBE71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39808-2AD9-41EB-968C-A8340D1A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D50BD-FD1D-478D-9E4A-D52ABE91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A3A8F-9417-4703-8F27-3270FAC7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DA4E6-09DD-4132-A1C9-A57740FD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F988-EE52-4529-B571-E0E91E98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8A8C1-485D-4C2A-A003-FD8B0D89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409CC-06AF-4949-A1AC-4389ED93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F8141-0909-4D1C-B34E-F329711B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7ED28-8EAA-4FBC-B666-D7AE37BA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F4EEA-0594-4E1A-B7D7-4FD28FF1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297D2-37CB-46E4-8C10-13DB45F1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E16F2-F712-48E2-A7DB-DC62DF3C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B98D5-D155-49D8-A12B-7D4C33F2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63A38B-8E98-4119-8BC9-22C7BA45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8300D-8841-40B5-BFE2-207DB7E3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BDF8-A48F-4529-888D-C1B8F0F3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B6D1B2-1284-4196-B77B-C2F0B055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A48C81-C9AA-4525-9407-962A68AA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2BABC-128B-47D4-805A-37D173BB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90ABB-28C0-4653-8E95-EEE7D889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262C5-4142-4F10-A706-A48C0F7E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8D935-8CA4-4084-9804-52467C0C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6D0345-6777-40BF-B790-B5D50674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98716-1515-4B6B-9255-79EFEDB0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F126F-FBEB-4321-9DCD-5E30C741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CA3CC4-1CD7-4D29-8DE0-A8525823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ACB3-2188-42F2-BB71-5BF0AB8E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540424-9D2F-4AF0-87BF-AB1E7230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1D8151-6A89-47F6-92EB-961F7D85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5D5B10-2B14-4691-999C-8B97FCDE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E537A-8822-407A-BDD6-8D1662B9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8A2DC8-8527-4641-93B3-E68FD5A4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4C90E5-68BD-4287-9BC6-EBEDBD91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39412-0FE3-4D21-8448-5F5301F5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946954-BC9B-4674-A57D-BF2722DF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E08BE7-0DD0-446C-9A04-5046112B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8049DE-C6EC-4299-826F-415C4C84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ADAC-8EB3-49EE-AFDF-B30729FE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26300-7D68-4235-A7C5-686CA3F6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9C65CD-B1DE-4621-8F88-953BBF32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70A802-1771-4AD9-9213-197C668F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CFC90F-DB3F-4402-AB96-12D5C3AB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0F7F19-004D-46D3-BDDF-629C06DD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C6587-D230-485B-826F-B53282D8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E15E6F-B637-4778-8FCF-0CFE2AA3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E5BB9-A5D5-4643-9B1B-3616C6DA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D7AE05-4C14-400B-8DA6-1CF7ACA0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93F3F1-F3DF-4AF6-A79F-A1AE5A64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6DD4-9712-4EB7-8FEE-B787D1B4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0CA8CF-9042-4E09-B32C-C821B918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B88B82-36F1-4AFD-8C3B-09752044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384EEB-1657-4B11-AB63-6685F2BB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302BA3-B12E-43D7-91A5-C07B7B29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F42F00-5E70-430C-B659-F96671FC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DB6F8D-9C12-42B3-BFF8-69BDDC72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C50C98-AA55-4F3C-AC89-1F9B451C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E6511D-AEC9-4E88-B499-9FC7263A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42373B-2FBD-4AD0-825B-0D19AC59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FF77D2-EC0F-42C5-9B42-8F6E9C89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5B0-96C3-48DB-83E3-E7FB73FC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8245-1120-435F-B351-9FBFC1E8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1D8CBA-FF2C-4C3D-9B7D-A3D6710B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9EA6B1-FDB7-4469-A0C8-5B5DD476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FBA68-B9D2-4FD5-91DE-F04AAF0B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60B33-69F4-44E2-9881-52546DD6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220963-2941-460F-9739-A6D5FDF2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1E064C-CC8B-4A19-A6F4-C8B56B9B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96447D-41A4-4A8A-9E19-C3B4F82E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746353-8E75-4717-BC71-DE6E938B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123C74-2958-4A0C-B1E6-AA808414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364AC8-372D-48B6-A247-846458F6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0B9A-96F1-47B8-97D9-51B43849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A2FB6-1EED-4C35-BF86-07A7C2D6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EC6296-A298-417C-AE6F-17688FD8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6DEA2-5854-479E-8284-35902551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20A0AE-36CA-4DF0-842F-7162E3F2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A6546E-E0EA-4BF4-88F4-8C2330A2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E253BA-69C6-43B3-B54B-857F2311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527D4F-F623-45CF-815B-E5520671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76B1F1-BA33-454F-9FDD-4B19A14C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38789C-AD7F-49A1-B728-1DE70271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070752-FEF2-4093-92DC-3FD84772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C506-92BD-43BF-8926-3044F5D7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648E63-CE4F-446B-A753-4E5B2F63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D1307F-F27C-4BC2-8985-9CF3CA49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10972B-FCD0-4E6D-B8C5-CDE50062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E94A32-CC63-4022-9764-5436CD98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CE0994-A984-4217-AD99-2A9CA546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F0C96B-413E-4C70-BA01-A0F07E6C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090BF3-4BE1-4BCC-81A9-A9B72E6F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915AFD-04C4-475D-82FB-C29DAE28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526A43-ECC7-4E1E-978C-11AF190F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12E0E7-B404-483D-80D5-D1C0824B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74DD-C13F-4693-BFE7-3A52C937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875402-19CD-41AF-85C9-C114009B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313F1F-1C28-4F2C-B103-00184A08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88F2BF-9D1A-4B1B-BDD5-A0160B7E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67928-1839-449D-BFD4-1D620887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5A33FF-5C47-4739-9266-8E09AA83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D69E38-E055-4D57-A84A-2CE759F0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0153D-3D42-4678-8254-0BF126D1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C5CC06-1531-47D5-9618-5973F506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E90D5E-C82D-4260-9A20-874EB317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6CD9AC-B31B-46C3-A063-BBA8BDD6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F6E3-FFC5-4511-8000-37329B4A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CB63D-E2F1-4210-9C94-2ED12A0D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F994D6-F4F0-4EAF-AC2E-15A2DA0D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CA0E5A-8DC4-4A14-81B4-C8D296F8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629D66-8005-41F7-B437-B7A766F0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70D90B-3133-4992-8290-168A9509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BA0CDF-7F40-40B6-BB1D-612007E1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D59383-BB8E-4100-AF8D-DE11E42E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A7808D-C7D7-448F-B94D-C15AFC64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8CCEA4-04F4-401D-9CEB-983F93B0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90A4BB-0A45-4751-982C-40D1298B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D1FE4-1007-42F5-AD2D-7E944785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BEE00E-B932-4160-B503-725D6728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FCF0D7-2DE8-4951-8EA0-A12B548A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FAE5FB-CB3B-4C06-A811-F3FCE197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B42AFE-F746-49F2-BEAB-C5C03D5D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9819F3-4F04-498A-BA66-6C6FC4F1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259309-46EC-4DEE-BED3-81671CDB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07F042-F2F0-4A7B-89D4-3191629D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A84B87-2CA7-47F0-8E59-A628927B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2F0F15-F50C-472E-85E6-6B37BB06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25F4F4-5B7C-4360-9CE0-5C0F3D0E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79F51-061E-4638-A65E-F88DD0CA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809C9B-D786-48D2-93CF-94075632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1AED46-5778-46B9-A635-E97B5F08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83AC58-5927-4DA7-AA20-50E84F08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2042D3-9B68-451F-A748-37568AA3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3D8B18-7018-409B-8361-C85DB726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F14E26-4C3F-47A9-A0BF-3ED7D76F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D32018-FE01-48E2-8E7A-D6EB25F6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5FE9FD-2059-42DA-932A-9F83C11B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8FC1FE-5933-4647-A844-EEADB7F9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5FAE7D-FE91-4118-996C-4BEBD3E1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2C783-6423-4D7C-BD24-2BE92282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6BB740-DEA9-40D7-A8B6-3C0C1E88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0AED1C-91B5-4E13-95FA-A6933378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CF6F66-7314-47C8-BE8A-59B1D963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5D97AF-98AA-4823-B540-CB7D2DE4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D75773-58D2-48AA-8E3F-C65E93B2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396BD0-6AA9-4D79-A15A-0067C008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E8EF09-B312-4A3A-9337-823B7090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92894-17A0-41D4-AFF9-0DF3C5AA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CE65F-6713-4F38-8358-13EF2941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128-848A-47D4-9FCD-4C9E0782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84FE9-F7B9-489A-B00B-040BE047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9BD78-BD7D-442B-BAB5-9CDE5A77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C0383-3749-4F5B-8DB5-44634689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4680D-AA9E-43E2-AD32-FBE259B4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61D4-51C6-41E9-9528-F58A2EB2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1A88C-B1C3-4FC1-8066-BC2784FB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B4029-E158-4F88-80F5-D625A616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8CBA1-523C-4634-B67F-D68417B7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F333E-CB47-46E0-BC7E-C4D29B75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B9AD6-BAD3-4D21-8072-E533D866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7D8-04D3-4B89-9C3D-E65390B5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D3826-E4A9-4028-8CAB-38F4521D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CF09E-F581-4B37-B22F-78217F58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0942F-ECE4-465B-8019-3E4E843D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C7391-D924-438E-8FD6-DBB17B95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7A618-2808-4B87-BF9A-023A583A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BC2E8-850C-46A6-970C-B0FAF6C4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C27BC-59C7-4F51-85D1-38A9335C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B19F6-D180-4B2B-9525-9F9FDB14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B1D59-81FF-48EC-B80F-B3D4659D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CAE68-DA0C-4808-B3D1-D568EE16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E63-C861-434E-920F-31815A7D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E196B-5BF3-4F67-9034-5A2E6C04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9C23B-0DA9-43D6-A5CA-F6F907CD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4F3E9-A541-4820-B43A-D925E00E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433D5-14E6-49A3-A717-B892F0FF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CC032-F1B7-4D87-8BCE-C6D49FD3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B9E07-C7E3-45B3-9BC1-CBC7D609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21C80-7687-467C-BED2-9DC69245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A9BFF-D3B7-411A-8011-4B4B7937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68DD0-E6AC-48DF-96B6-C7C5FEA9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754B0-5C71-46EA-8D26-49055374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77D-6B30-472E-BADF-C03FA32C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BF405-9DC0-4D39-AB6B-E9C69C62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F9769-16AC-439D-9B01-2724A2F0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91231-E08B-4F12-9471-46CE81C4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001E9-691F-4DC2-AE08-B81FB666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447AC-8A71-42B0-993B-0424EC3C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A477E-67DD-422B-B006-BF7F98CA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A59D1-882A-42D0-AF54-187E0922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5894A-9FFB-4B59-9AA8-2CFAC17E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74953-AE79-4A95-8777-2187C22D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DA764-4122-40EA-997F-5F3C388A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2C0-809D-4B88-B264-4608C93B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31CDF-0568-4B08-B9A9-EBBC7359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3679B-B7D9-49A9-A0C1-28572099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821A6-338D-4A49-AA6F-9B3C67EE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70D1E-4CD5-41CC-88D7-F3B9BCEF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99067-5D69-4049-BEDA-71ADC670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C9A41-431E-4720-ADC6-E4CB00EA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D5BA0-9EF2-436F-8C26-9D6F7BFD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43D1B-A25A-4FC8-BA49-AED97400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33620-6921-4D36-8792-0A065177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70CCC-125D-4A04-A7BE-9F60F2C2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81A-E9D7-4076-ABE2-E1CB2B7F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63BE7-E8BC-4457-A5CF-9D0A79DC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273CC-BAB1-49C7-955C-24EFD392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BF3CF-80E4-49DA-98AD-D03F3947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1F371-AFB3-4047-B40F-DFF46CBA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D1810-BD7E-4775-A2C9-5473018C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62DDC-61D5-43D1-8075-D156041D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C8A87-99FE-45E0-A7EF-2BC679DD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DE94A-05DC-4D44-A596-3F9D3E92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7141D-BA1F-4099-9FAF-4EAF258B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2F7C7-55F1-414B-AEA5-7C4BE5D1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FD1-B00C-4EC8-A040-777032EB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DFF28-E4CB-4080-8EC2-2B8C6FFF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CD0D5-82A2-476F-ADB6-B60B6CF6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196A5-0882-4312-BC75-22682703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392E2-9DD6-489D-8336-73468838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9352E-9746-45CB-8719-9D25ECCA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8E38E-212B-4DFE-A529-2B24A4CC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6C205-199B-46CA-BBED-588C541C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6B06F-99C5-4BD6-AB46-7CE9FF2C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B4EED-11D0-4CD0-A9C8-D5C69833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63CD5-BB8A-4800-86C1-C0CE2B95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1576-7EB3-47B2-9E54-50F46E6420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CDB3-D0B5-432A-AC33-215CC5B4ED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EEA0-D98D-4BA7-8104-FE467E8366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1DFB-B196-4E99-82D8-5968BF8CDF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BD03-236D-446F-8BBB-73EDF5AFE1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D232-E547-4972-AAF5-9CAF841621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3025-84ED-4CE9-AB89-3F9269D268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2C89-BB2F-4CD5-9C78-6771CF4AE7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74F7-10AF-4F45-ABB8-6AECE40BE2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6976-19DD-40BB-8055-DC70A6A273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F918-B7F0-4B0C-84B8-972C49AFB2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55A3-D08C-4850-839D-E7EE58F3A2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97C5-4D14-4513-B727-9431CBACB9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A14E-7A23-42AC-BCAD-18AA6C6C09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3C5E-74A9-4D0E-BDFF-D9D88DBD7B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C52B-7CD9-47EE-874E-9AC52E1D3B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91BF-934F-4E18-8961-06F45DABB8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B017-4402-4E06-9852-8AC663A4A8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2939-9A6E-4BFB-9FAE-4F171F4237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FBBC-0AC3-422E-8F15-8C05DCE93A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3AFF-F371-47F6-9180-2F18875030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A0CD-4AA7-4BEB-83A2-80121D5C20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5A96-4C80-47A3-AEFB-219467A723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97F1-7757-4D86-8A9B-4EC0A5592A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1F43-F57C-41C9-A040-5929CED2C1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4A8E-4A4E-478C-B3FE-9AE8B3E1B7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E5C5-BBC1-4E16-B4BA-C6B2C879B0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AA80-6114-4584-8F72-30DBBEB8AD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D2D3-1E59-444F-9840-23F68E842C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CB94-7D7A-4214-93B8-4A1D7DC3AC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BCAE-4799-4694-B294-42673D876A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6F00-4C7C-4C6D-B315-E447389AB2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83CE-3600-4AD4-AB92-25487D9458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8D5A-7792-4884-A440-F92013B18C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AADF-9ED6-4BA8-9287-AD8A7714C4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172E-8B89-476A-8F34-E968222E99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74DC-90BD-4A39-9000-92CEFBACB3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5A3E-6EB9-4D63-88D7-7C7861C812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CEBF-5205-4201-BE49-F4EC16D518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BF0B-A3A1-4A35-BA99-5852006E4D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FF5B-D690-4C0A-A289-C3AFE2B6E1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C29F-DE9F-4C48-B087-7702221BD4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176480" y="2471760"/>
            <a:ext cx="67910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500040" y="744480"/>
            <a:ext cx="8143920" cy="58960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187280" y="276552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1116000" y="342900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1116000" y="401940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1042920" y="472428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1116000" y="5373720"/>
            <a:ext cx="7416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4840" y="1943280"/>
            <a:ext cx="8734320" cy="297180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979640" y="350028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020000" y="371628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148360" y="4365720"/>
            <a:ext cx="115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581040" y="1290600"/>
            <a:ext cx="7981920" cy="42768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2987640" y="2340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6718320" y="234936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4"/>
          <a:stretch/>
        </p:blipFill>
        <p:spPr>
          <a:xfrm>
            <a:off x="3160800" y="3213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5"/>
          <a:stretch/>
        </p:blipFill>
        <p:spPr>
          <a:xfrm>
            <a:off x="7107120" y="31989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6"/>
          <a:stretch/>
        </p:blipFill>
        <p:spPr>
          <a:xfrm>
            <a:off x="3564000" y="40910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7"/>
          <a:stretch/>
        </p:blipFill>
        <p:spPr>
          <a:xfrm>
            <a:off x="3578400" y="494172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547560" y="1481040"/>
            <a:ext cx="8048880" cy="38959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464328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4284720" y="350028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4356000" y="414972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4643280" y="4797360"/>
            <a:ext cx="1150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243000" y="701640"/>
            <a:ext cx="8658000" cy="59817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788508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7812000" y="2205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788508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788508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6"/>
          <a:stretch/>
        </p:blipFill>
        <p:spPr>
          <a:xfrm>
            <a:off x="7885080" y="4797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7"/>
          <a:stretch/>
        </p:blipFill>
        <p:spPr>
          <a:xfrm>
            <a:off x="7812000" y="61372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223920" y="819000"/>
            <a:ext cx="8696160" cy="52200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41054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684360" y="4292640"/>
            <a:ext cx="410508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684360" y="4941720"/>
            <a:ext cx="813564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119160" y="716040"/>
            <a:ext cx="8905680" cy="60386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900000" y="2954160"/>
            <a:ext cx="36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36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826920" y="4221000"/>
            <a:ext cx="36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900000" y="4927680"/>
            <a:ext cx="3888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88581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590400" y="1467000"/>
            <a:ext cx="7963200" cy="39240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042920" y="2781360"/>
            <a:ext cx="403380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042920" y="3500280"/>
            <a:ext cx="403380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1116000" y="4149720"/>
            <a:ext cx="403380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1187280" y="4797360"/>
            <a:ext cx="4034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7:3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